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12D-9C50-438A-A1AC-47CC925E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BBC2-7C0F-434B-9719-BEC8945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CBE-B1EC-4B61-9770-3C79A64A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E3C-64E1-409B-AC53-4D6E5165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0F7D-B38A-46A4-AA5C-A268D836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7E7-7311-4FCD-8930-AA8BBEC5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D491-F815-4065-AACA-B3955818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415-F404-40A3-BE33-0DAC0BED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6E6-669A-462F-8474-D3F43A67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79A2-BAF6-464E-983E-971F2CF0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04CD-D427-457E-803D-2CAA0175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EE7-1CB4-4AFB-8DB2-E4C88920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21FB-12DD-4656-A0CB-8B72911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D328-AAA0-4698-944C-257014A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F75-262F-4E10-AF42-813E37E7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AD8D-F56D-45AB-836A-522A7F15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A7A2-E859-4D4B-A6F2-1065EE6A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2FD-8AB3-4CB1-A7EB-036731A5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F7A-C624-43B5-B095-BD6A72A5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B52-B104-4412-8187-D0335E3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68A-655B-4AC9-BE79-93F68FD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02D-22A6-4CB8-8B79-0683101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741-859F-495E-BC17-2E8A506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3EC-6B4F-4636-9180-F9509E61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BDD6-C326-4482-96BA-E10A8D7BC59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812C-5F18-406E-931B-95078D06E4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1 Constitutional Underpinn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ational Suprem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V Supremacy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Culloch v. Maryland (1819) Federal law is supreme over state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bbons v. Ogden (1824) National supremacy over interstate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 of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dom of religion, speech, press, petition, and assemb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unreasonable search and seiz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ions against self-incrimination and double jeopar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ions in criminal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d for the expansion of the Bill of Rights to the states and local govern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s that set limits or boundaries on one person’s rights over another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revie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dom of Relig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tablishment Clau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canno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a national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vor one religion over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x citizens to support any one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dom of Relig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stablishment Clau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know the following Supreme Court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e v. Vi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ngton Township v. Schem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on v. Kurtz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ersville v. Gob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 Virginia v. Barnet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ace v. Jaf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dom of Relig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ree-Exercise Clau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rantees the right to practice any religion or no religion at 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ynold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sconsin v. Y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egon v. Sm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 of the Lukumi Babalu Aye v. City of Hiale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Spee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e Speech: the most common form of speech, verbal spe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ic Speech: using actions or symbols to convey an i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ch Plus: verbal and symbolic speech used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Spee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ram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nck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tlow v.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nker v. Des Mo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as v. John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no v. AC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the P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r v. Minnes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Times v. Sulliv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 Time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stler v. Fal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zelwood School District v. Kuhlme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reedom of Assembl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overnment is allowed to set limits on assembly to protect the rights and safety of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jonge v. Oreg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perty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ue process clause of the 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s provide for the protection of private property by guaranteeing :life, liberty, or property, without due process of the law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deralism 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al Federalism (1789-1932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er cake federalism: National and state have power within their own sphere of influ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perative Federalism (1932-1968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ble cake federalism: National and state work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Federalism (Nixon, Reagan, Bush 4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olution of national power to the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ue Pro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tantive du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ves the policies of government or the subject matter of the laws, determining whether the law is fair or if it violates constitutional prot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dural du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ethod of government action or how the law is carried out, according to established rules and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ight to Priv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makes no mention of a “right to privacy,” however the Supreme Court has interpreted several rights that may fall under the category of 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iswold v. Connectic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e v. W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ur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arch and Seizur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lf v. Color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p v. Oh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LO v. New Jers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eks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z v.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f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lf-Incrimin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is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randa v. Ariz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x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ight to an Attorne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ll v. Alab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deon v. Wainw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ighth Amendmen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ruel and Unusual Punishment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se ca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man v. Geor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gg v. Geor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positive acts of government, designed to prevent discrimination and provide equality before the la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qual Protection Clause of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prevents the states from discriminating against citiz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abolished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defined citizenship and provided due process and equal pro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provided that all males 21 and older could v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outlawed the poll tax in federal e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codes: state laws passed to keep freed slaves out of politics (literacy test, poll tax, registration tes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Rights Act of 1876: outlawed racial segregation in public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Crow Laws: created segregation in schools, public transportation, and hot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lessy v. Fergu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eparate but equal facilities are 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 8802: Franklin Roosevelt banned racial discrimination in the fede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 9981: Harry Truman ordered the desegregation of the milit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own v. Board of Educ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overturn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lessy v. Ferguson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but equal is unconstitu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iscal Federa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 in a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ey and resources provided by the national government to state and local projects and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tegorical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nts that have specific purpose defined b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grants which can be used for a variety of purpo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funded man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ments which are imposed by the national government on the state and local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Right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Rights Act of 1964: prohibited discrimination in employment and in places of public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ing Rights Act of 1965: outlawed discriminatory tests in voter reg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Women’s Mov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gave women the right to v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 Pay Act of 1963: made it illegal to base a person’s pay on their gender, race, religion, or national ori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al Employment Opportunity Act of 1972 prohibited gender discrimination in hiring, firing, promotions, and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ople with Disabil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habilitation Act of 1973 prohibited discrimination against people with disabilities in feder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mericans with Disabilities Act of 1990forbids employers from discriminating against people with dis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firmative 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olicy designed to correct the effects of past discri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niversity of California v. Bakk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78): the court ruled that affirmative action was constitutional but that Bakke had been denied equal protection because the university used race as the sole criteria for admi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Beliefs and Behavi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Cul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beliefs and basic values shared by most citize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ality in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vidual freed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Social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in which citizens acquire a sense of political ident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and home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affiliations (interest groups, labor un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graphic factors (age, sex, race, relig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torical ev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blic Opi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hared attitudes of many different people in matters relating to politics, public issues, or making of public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asuring Public Opi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0’s George Gallup developed poll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ing valid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ling how the poll is t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yzing and reporting 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Ide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beliefs about politics and public policy that creates the structure for looking at government and public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Spectru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cal: favor rapid, fundamental change in existing social, economic, political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l: supports active government in promoting individual welfare and socia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rate: political ideology falls between liberal and conser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rvative: promotes a limited government role in helping individuals, supports traditional life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ctionary: advocates a return to a previous state of af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als of the US Constit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strong union of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rve Domestic 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for the common defe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general welf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individual freed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Pa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Pa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ssociation of people who seek to control the government through common princi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Party System: There are several parties but only two major parties compete and dominate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or Parties: generally have little to no impact on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 Parties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 candid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minate and support candidates for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e the electo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 the government (majority vs. minorit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y Identifi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 of cou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 trad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ital st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a Two Party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heri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/Anti-Federal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oral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lectoral Dealignment and Realign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gnment: when significant number of voters no longer support a particular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ignment: voting patterns shift and new coalitions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ublicans (186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s (19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ting and El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tical Particip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ting in el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ing politics and attending political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ing interest groups and PA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ing public offi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ng money to a candidate or political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ning for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sting governmen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ssue or Policy Vo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 Prim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citizens to nominate candi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a special election initiated by petition to allow citizens to remove an official from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end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citizens to vote directly on issues called propos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s voters to petition to propose issues to be decided by qualified vot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w Voter Turno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ter turnout is higher for Presidential el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turnout for midterm ele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when compared to other n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titution Remedies th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ticles of Confede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s Feder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alance between the national and state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government could t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 could regulate commerce between the states and foreign 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 II created an executive department to enforce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le III created a national judiciary with a Supreme Court and lower courts established by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w Voter Turnou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ansion of the electorate (2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ure of the political parties to mobilize vo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perceived differences between candidate or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trust of the 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at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tisfaction with the way thing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 of political effic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bility of the electora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tion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El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Election: voters choose candidates from their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sed primary: only voters who are registered in the party may vote to choose the candi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primary: voters may vote to choose the candidate of either party, whether they belong to that party or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nket primary: voters may vote for candidates of either pa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noff primary: when no candidate from a party receives a majority of the votes, the top two candidates face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Elec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El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ters get to choose from among all the candidates nominates by political parties or running as indepen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oral Colle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and Vice-President are chosen by the 538 electoral v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5 distri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0 sen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Washington 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s use a winner take all method of assigning their electoral votes based on popular vo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ndidate that receives a majority (270) is declared win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no winner is declared the House of Representatives chooses the President and the Senate chooses the Vice-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mpaign F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Election Campaign Act (197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ri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ount spent on campaign adverti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d disclosure of contributions and expendi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 Election Com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s the FE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public financing for presidential candi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uckley v. Valeo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upreme Court ruled that spending limits established by the FECA were unconstitu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est Groups and the Mass Medi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est Grou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se awareness and stimulate interest in public affairs by educating their members and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 membership, serving as a link between members and the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formation to the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channels for political partici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Interest Grou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Interest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 Groups (AFL-C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Groups (Chamber of Commer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sional Groups (National Education Associ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icultural Groups (National Farmer’s Un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gislative, Executive, and Judicial Bra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egislative Bran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stitution Remedies th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ticles of Confede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the national government could coin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re represented based on population in the House of Reps and equally in the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ls need a simple majority in the House and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/3 of Congress and 3/4of the states are necessary to amend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 of the US Constitution creates a bicameral legislature consisting of the House of Representatives and the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urrent structure was a result of the Connecticut or Great Compromise reached at the Constitutional Con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5 members apportioned by po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years; entire House elected every 2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least 25 years 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zen for 7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live in state where district is loc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e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er, by distr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ti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tting Elected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rtionment: distribution among the states based on the population of each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pportionment: the redistribution of Congressional seats after the census determines changes in population distribution among the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districting: the drawing by state legislatures of congressional districts for those states with more than one represen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rymandering: drawing congressional districts to favor one political party or group over an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er of the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iding officer and most powerful me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s bills to committe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s floor deb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oints party members to committ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ity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stant to the Speak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lps plan party’s legislative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s floor deb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ority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jor spokesperson for the minority 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ganizes opposition to the majority par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use of Representative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a Bill becomes a Law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ill is introduced, numbered, and assigned to 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ll may be assigned to a subcommittee for further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ll is returned to committee where it is approved or rej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ules committee sets terms of debate for the b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ll is debated by th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vote is taken. Bills that pass go to the Sen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rence committee resolves any differences between House and Senate B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lved bill is voted on in th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pproved, sent to the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 Sen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hip: 100 members (2 from each sta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 of office: 6 years; staggered terms with one-third of the Senate elected every 2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fication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least 30 years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zen for 9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live in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encies: Larger, entir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tige: More presti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 Sen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El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 were originally chosen by the state legislatures in each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13, the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 allows the direct election of senators by the people of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 Sen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 Vice Presid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ing officer of the Sen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not debate and only votes to break a 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pro tem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ior member of the majority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eremonial pos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st influential member of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jority party’s spokesper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ority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s the same role as the House minority l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US Senat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a Bill becomes a Law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ill is introduced, numbered, and assigned to a committ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ll may be assigned to a subcommittee for further stu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ll is returned to committee where it is approved or rejec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rules committe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ll is debated by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ote is taken, where the bill is passed or defeated. Bills that pass the Senate are sent to the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ference committee resolves any differences between House and Senate B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lved bill is voted on in the Sen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pproved, sent to the 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gressional Overr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President vetoes the bill then it is returned to the Congress, where they may override the veto by a two-thirds vote in each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sic Principles of the Constit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ed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pular sovereig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ion of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s and bal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Committe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ermanent committee that deals with specific policy matters (agriculture, energy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mporary committee appointed for a specific purpose (Senate Watergate Committe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up of members of both Houses (Joint Committee on the Library of Congres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mporary committee of members from both Houses, created to resolve differences in the House and Senate versions of the b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c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groups formed by members of Congress who share a common purpose of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ional Black Cauc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Cau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ic or Republican Cau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oles of Members of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ym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ent serv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ittee m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ian/Party m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use of Representatives/Senat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umbency Effect: the tendency for office holders to easily get reelec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re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dit claiming (bringing positive results to the district or sta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ework for constituents (helped constituents solve probl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visible to constitu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 expo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draising 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ence in campaig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ting rec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wers of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ve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ressed powers: Powers specifically granted to Congress, mostly found in Article I, Section 8 of the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ed powers: powers which may be reasonably suggested to carry out the expressed powers; found in Article I, Section 8, Clause 18, “necessary and prop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ations of powers: power denied Congress in Article I, Section 9 and the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wers of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Legislative Pow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oral powers: selection of the President by the House and Vice-President by the Senate upon the failure of the electoral college to achieve a majority v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ndment powers: Congress may propose amendments by 2/3 votes of each h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eachment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use may bring charges, or impeach, the President, Vie-President, or any civil officer by a simple maj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nate holds the trial and acts as a jury with a 2/3 vote needed to find gui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ive powers of the Senat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approve appointees by the Executive Branch by a simple maj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approve treaties by a 2/3 vo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estigation/oversight powers: investigate matters falling within the range of its legislative auth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gislative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cuses: may form voting blo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ibuster or Cloture: in the Senate only, unlimited debate in an attempt to stall action on a bill; cloture is the method by 60 votes to end a filibu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k barrel legislation: an attempt to provide funds and projects for a member’s home state or distr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rolling: an attempt by members to gain support of other members in return for their support on the member’s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gislative Tac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ders: additions to legislation which generally have no connection to the legisl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dments: additions or changes to the legislation which deal specifically with the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bbying: trying to influence members of Congress to support or reject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erence committee: may affect the wording and therefore intent of the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tive veto: the rejection of a presidential or executive branch action by one or both houses of Congress, used mostly between 1932-198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ed unconstitutional in the 1983 case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mmigration and Naturalization Service v. 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fluences on Congr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lawmakers and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infl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bbyists and interest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ve Branch and the Bureaucr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mend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has been formally amended 27 t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ease know all the amend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10 amendments are known as the Bill of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 of the United Sta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I of the Constitution establishes the many responsibilities and functions of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 and Ten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year t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terms (10 year max) 2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 of the United Sta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Qual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ural born citiz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least 35 years 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dent of the US 14 years prior to el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l, many presidential candidates share several characterist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 or military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tical accep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r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s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thern European ance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ccession and Disabil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provides that if the President can no longer serve in office the Vice-President will carry out the powers and duties of the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ice-President becomes President if the office of the president becomes vac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ident will nominate a new Vice-President, with approval of a majority from both houses of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eachment and Remov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onstitution gives the House of Representatives the authority to bring charges against the President or Vice-President for “Treason, Bribery, or other High Crimes and Misdemeanor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charges are brought the Senate holds the trial. The Chief Justice of the Supreme Court presides over the 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iction requires a 2/3 v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ectoral College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mend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lectoral college elects the President and Vice-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state chooses the number of electors equal to its number of members in the House of Representatives and Sen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December, after the general election, the electors meet in their state capital to cast their ballots for president and vice-presi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lectoral college then sends its ballots to the President of the US Senate where they are opened before a joint session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win a candidate needs a majority (27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majority is not reached the House votes on the top 3 candidates for President and the Senate votes on the top 2 candidates for Vice-Presid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Vice-Presiden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s over the Senate, casting tie-breaking vo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 determine presidential disability under the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dment and take over presidency if neces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s the same formal qualifications as the Pres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Po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forces laws, treaties, and court de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 executive orders to carry out poli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s officials, removes offi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es emergency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s over cabinet and executive bra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litary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s as commander in ch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final decision making authority in matters of national and domestic 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for domestic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Po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islative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s annual State of the Union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sues annual budget and economic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s or vetoes b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oses and influences legis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s for special sessions of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lomatic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oints ambassadors and other diplom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otiates treaties and executive agre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s with foreign 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rds diplomatic recognition to foreign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ives foreign dignit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esidential Pow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l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s members of the federal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nts reprieves, pardons, and amnes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y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 of the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s vice presidential nomi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ngthens the party by helping members get elected (coattail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oints party members to government positions (patron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luences policies and platform of pa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imitations on Presidential Powe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ional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ide presidential ve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 of the pur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 of impeach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val powers over appoint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islation limiting the president’s power (War Powers 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icial review of executive 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che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 atten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formal Amendments to the Constitu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islative action: Judiciary Act of 17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actions: 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l review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stom and usage: No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erm for Presi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reaucr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ureaucra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ystematic way of organizing a complex and large administrative struc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erarchical authority: similar to a pyramid with the top having authority over those be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 specialization: each worker has defined duties and responsibilities, a division of labor among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rules: established regulations and procedures which must be follow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 and Grow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nings: standards for office included qualifications and political accep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ils system: practice of giving offices and government favors to political supporters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orm movement: competitive exams were tried and failed due to inadequate funding from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dleton Act: Civil Service Act of 1883, replaced the spoils system with a merit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 Act of 1939: prohibits government employees from engaging in political activities while on du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Service Reform Act of 1978: created the office of Personnel Management to recruit, train, and establish classifications and salaries for federal employ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ederal bureaucracy is divided into four basic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binet departments (15 executive departm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executive departments (NASA, Small Business Administ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regulatory agencies (Securities and Exchange Commission, Federal Reserve Bo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corporations (Tennessee Valley Authority, US Postal Servi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fluences on the Federal Bureaucra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cutive influences: appointing the right people, issuing executive orders, affecting the agency’s 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gressional influences: influencing appointments, affecting the agency’s budget, holding hearings, rewriting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on triangles: alliances between bureaucratic agencies, congressional committees, and interest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ve Office of the Presid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 House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Management and Budg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Faith Based and Community Initia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National Drug Control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Policy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ncil of economic Advis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e of US trade Represen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ecutive Depart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s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 and Huma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ing and Urban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terans affai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land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Judicial Bran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Federal Court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S has a dual court system of courts-a federal court system and the court system of the 50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le III of the Constitution states that there shall be a Supreme Court and that Congress may establish a system of inferior 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risdi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iginal jurisd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wer courts have the authority to hear cases for the first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trict Court conducts trials, evidence is presented, and juries determine the outcome of the c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eme Court has original jurisdiction in cases involving representatives of a foreign government, and certain types of cases where a state is a pa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llate jurisd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s that hear reviews or appeals of decisions from the lower cou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rt of Appe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eme Co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deral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d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ed powers given to the national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ied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may be reasonably inferred from the Constitution (Necessary and Proper Clau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herent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exist from the national government because the government is sovere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urrent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ong to both the states and national govern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rved p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s that belong to the states (Amendment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cture of the Judicial Syste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ct Cou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by the Congress in the Judiciary Act of 1789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94 District Cour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civil and criminal c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by Congress in 18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13 US Court of Appe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appeals from the District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reme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d by Article III of the Constit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its cases are appeals from the US Court of Appeals and State Supreme Cou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 original and appellate jurisdi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icial Se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sident appoints all federal judges with confirmation from the US Sen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no formal qualific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e a life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judges may be removed through impe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preme Court Se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s only make appointments to the Supreme Court if a vacancy occurs during their term of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aking appointments, Presidents often consid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y affil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philoso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ce, gender, religion,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icial experi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al ide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upreme Court at 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rm of the Supreme Court begins on the first Monday in October and generally lasts until June or July of the following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cepting Ca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ses that are accepted must pass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ule of fou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ur of the nine justices must agree to hear the c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 of certiorari: an order by the court directing the lower court to send up the records of a case for re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rtificate: a lower court may ask the Supreme Court about a rule of law or procedures in specific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iefs and Oral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a case reaches the Supreme Court, lawyers for each party to the case file a written brie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ten briefs include: detailed statements of the facts of the case supported by relevant facts and citations from previous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ested parties may be invited to submit amicus briefs (friends of the court) supporting or rejecting arguments of the c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al arguments allow both sides 30 minutes to present their positions to the jus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riting Opin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the Supreme Court has made a decision in a case, the decision is explained in a written stat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ity opinion: a majority of the justices agree on the decision and its reas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urring opinion: a justice who agrees with the majority opinion but not the reasoning behind the dec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senting opinion: a justice or justices who disagree with the majority opin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jority opinions become precedent in deciding future c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icial Activ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s that the court should play an active role in determining national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hilosophy advocates applying the Constitution to social and political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udicial Restra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ds that the court should avoid taking the initiative on social and political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ng strictly within the limits of the 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5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s and Public Policy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ederalism In Pract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state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 faith and credit clause: states are required to recognize the laws and legal documents of other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ileges and immunities clause: states are prohibited from unreasonably discriminating against residents of another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dition: states may return fugitives to states which they f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state compacts: states may work together to solve regional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enda-Set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gnizing an issue as a problem which must be addressed as a part of the political agen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are brought to the political agenda b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est grou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vernment Ent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ormation/Adoption/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ion: finding ways to solve the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ion: adopting a plan of action to  solve the problem; may require legi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: executing the plan of action by appropriate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agency or agen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cy Evalu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sis of policy and its impact upon the probl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ing the effectiveness of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est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e Prevention: FBI, DEA, &amp; A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: States run education but since the creation of the Department of Education (1979) the Fed has used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nts and vouchers as influ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ergy: The study of alternative and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renewable sources of fuel. Regulates nuclear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mest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 Care: Medicare (elderly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Medicaid (poor), CDC, VA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F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Welfare: Social Security, Hous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Programs,unemployme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ing Revenue: income tax, cooper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tax, estate tax, cus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Spe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retionary Sp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ense, Education, Student Loans, Scientific Research, Environmental Clean-up, Law Enforcement, Disaster Aid, Foreign A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discretionary Sp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55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rest of the national debt, social welfare program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 Budget: Proposed each yea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(fiscal year is October 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through September 3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os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federal agency must submit a budget request to the Office of Management and Budg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submits a budget proposal to Congress based on the OM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ngress proposes its own budget based on the advise of the Congressional Budget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conomic Polic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dget must be passed by Congress and signed by the President by September 1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lure to pass a budget could lead to the federal government to shut d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 Government Review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6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 Liberties and Civil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ivil Liber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 of habeas corpus: you must be brought before the court and informed of charges against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bills of attainder: you cannot be punished without a t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ex post facto laws: laws applied to acts committed before the laws’ passage are unconstitu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al by j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6:32:50Z</dcterms:created>
  <dc:creator>WrayB</dc:creator>
  <dc:description/>
  <dc:language>en-US</dc:language>
  <cp:lastModifiedBy>Checkout</cp:lastModifiedBy>
  <dcterms:modified xsi:type="dcterms:W3CDTF">2010-04-20T16:47:08Z</dcterms:modified>
  <cp:revision>15</cp:revision>
  <dc:subject/>
  <dc:title>AP Government Review</dc:title>
</cp:coreProperties>
</file>